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10F-9052-4FF6-A881-18B025CA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976-B242-4908-BBE3-6E5CFC65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489-7220-4BB4-847F-3483F4D8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CEE-7F04-4E4F-BC9E-44D3A08A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4DA-E17B-4E15-9FF3-1761CB10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0E3-35D7-440A-9AB7-B8F83F4E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340-44E7-4451-BA2D-3DDCB15A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266-8E55-4BE5-A9A8-77E1470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756-7FC6-43D9-986A-F67C669F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A48-2574-4789-ADB0-9E580AC3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C84-5ABC-4154-8AC4-3437E38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868-BEB9-4117-967E-5B29762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218-413B-4D3E-844E-8ED9510A0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ltx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Ashley Childr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HI-2 Windows and Window Treat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David W. Butler High Sch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April 21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505320" cy="280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335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rizontal bli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8769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blinds are a type of window treatments that makes it possible to allow light into the room when desired as well as providing privacy when needed. They run right to le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454480" cy="306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8380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Mini blind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47242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ts are curved aluminum and available in 1/2", 1", and 2" sizes. Aluminum blinds are one of the most affordable horizontal blind op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6858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Vertical blin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105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s that run up and down. Normally used for sliding glass do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419360" cy="294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57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Interior shut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treatments that open and close easi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448080" cy="277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335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orni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2670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rnice is simply a window treatment that is installed onto a lined wooden board. Cornices generally feature padded and upholstered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Elegant taffeta silk panels"/>
          <p:cNvPicPr/>
          <p:nvPr/>
        </p:nvPicPr>
        <p:blipFill>
          <a:blip r:embed="rId1"/>
          <a:stretch/>
        </p:blipFill>
        <p:spPr>
          <a:xfrm>
            <a:off x="2666880" y="1143000"/>
            <a:ext cx="3429000" cy="4010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380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Draperi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2578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tain that is a piece of cloth intended to block or obscure light. Found more in formal rooms such as dining or living ro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414520" cy="36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afé Curt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410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treatment that only blocks half of the window. Found in kitch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Thyme Tieback Curtain Panels"/>
          <p:cNvPicPr/>
          <p:nvPr/>
        </p:nvPicPr>
        <p:blipFill>
          <a:blip r:embed="rId1"/>
          <a:stretch/>
        </p:blipFill>
        <p:spPr>
          <a:xfrm>
            <a:off x="2819520" y="1371600"/>
            <a:ext cx="293364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4572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Tieback curt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9480" y="52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tains that can be tied back to allow light into the 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486160" cy="331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38088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Swags and jab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5181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window treatment that is more formal than any other window trea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124440" cy="2324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572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Valan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952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treatment that is found usually in the kitchen and bathro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vertical windows"/>
          <p:cNvPicPr/>
          <p:nvPr/>
        </p:nvPicPr>
        <p:blipFill>
          <a:blip r:embed="rId1"/>
          <a:stretch/>
        </p:blipFill>
        <p:spPr>
          <a:xfrm>
            <a:off x="3200400" y="1295280"/>
            <a:ext cx="2655720" cy="392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Double Hu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518148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hung windows open both from the top and the bottom. Right now, double-hung windows are very popular as they offer sophistication as well as practica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ruffled ballon shade"/>
          <p:cNvPicPr/>
          <p:nvPr/>
        </p:nvPicPr>
        <p:blipFill>
          <a:blip r:embed="rId1"/>
          <a:stretch/>
        </p:blipFill>
        <p:spPr>
          <a:xfrm>
            <a:off x="2666880" y="1981080"/>
            <a:ext cx="3581640" cy="2900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94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alloon sh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5486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shade which creates a gathered bottom edge when ra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24040" cy="255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6094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Roller sh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1055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Flat panel of fabric or vinyl attached to a dowel with a roller spring mechanism for lift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714760" cy="27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Roman Shad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ilored, fabric window shade that hangs as a flat panel and is raised by cords to fold accordion-sty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568600" cy="3019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57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rizontal sl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2578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liding windows have an operating sash. The operating sash slides from side to side to open and cl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546280" cy="302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335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Cas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952880"/>
            <a:ext cx="474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 frame hinged on one side so that it swings out or in to 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25680" cy="30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09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Aw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out from the bot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276720" cy="324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Ho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9528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opper is hinged at the bottom and opens inward to about 45 degrees, with screens on the outside. Normal found in bas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Jalous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191120"/>
            <a:ext cx="3429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louvers that overlap one another. Operated with a crank or turn-screw, the glass louvers tilt to open, permitting air flow. Besides the fact that they do not obstruct the view, their biggest advantage is they allow ventil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Bay Windows by QualiT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05120"/>
            <a:ext cx="3733920" cy="265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335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a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 windows are specially designed windows which create a niche in a home filled with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Bow Window"/>
          <p:cNvPicPr/>
          <p:nvPr/>
        </p:nvPicPr>
        <p:blipFill>
          <a:blip r:embed="rId1"/>
          <a:stretch/>
        </p:blipFill>
        <p:spPr>
          <a:xfrm>
            <a:off x="2514600" y="1752480"/>
            <a:ext cx="3781440" cy="291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4572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upcat"/>
              </a:rPr>
              <a:t>Bow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800600"/>
            <a:ext cx="3581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w window is a lovely way to open any room and capture a vi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4:05:13Z</dcterms:created>
  <dc:creator>8197867</dc:creator>
  <dc:description/>
  <dc:language>en-US</dc:language>
  <cp:lastModifiedBy>8197867</cp:lastModifiedBy>
  <dcterms:modified xsi:type="dcterms:W3CDTF">2009-04-30T14:20:16Z</dcterms:modified>
  <cp:revision>5</cp:revision>
  <dc:subject/>
  <dc:title>Ashley Childress HI-2 Windows and Window Treatments David W. Butler High School April 21, 2009</dc:title>
</cp:coreProperties>
</file>